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explode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60B-31FC-430B-AFD4-F3D1135A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D09-A45B-4108-B0C9-BBB8242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962-32BE-42A5-8969-10FEC717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08E-086E-4E08-9979-CC1039B2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C40-6541-47C9-A6D4-66E41F2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03C-2CA6-4593-BABF-9D0E8AF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F3C-AD27-4C17-8947-E2F6FB6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5DD-7427-4264-8DA0-DAD59E5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843-2B25-410A-A6E3-DF7163F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69F-0B22-44F4-BE20-E1F9AFA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219-A4B3-43F5-A6E8-67CFDC5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E33-DBA4-4910-B076-2AB9572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57B-743F-42FB-88D8-078214A56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olcano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volcano1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volcano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volcano1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olcano1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volcano1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volcano1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volcano1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volcano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volcano18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volcano1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olcano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volcano20" descr=""/>
          <p:cNvPicPr/>
          <p:nvPr/>
        </p:nvPicPr>
        <p:blipFill>
          <a:blip r:embed="rId1"/>
          <a:stretch/>
        </p:blipFill>
        <p:spPr>
          <a:xfrm>
            <a:off x="76320" y="58680"/>
            <a:ext cx="9067680" cy="679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olcano2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volcano2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volcano2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volcano2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olcano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olcano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olcano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olcano6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922032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olcano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olcano8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olcano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04:42Z</dcterms:created>
  <dc:creator>Nicky Capponi</dc:creator>
  <dc:description/>
  <dc:language>en-US</dc:language>
  <cp:lastModifiedBy>Nicky Capponi</cp:lastModifiedBy>
  <dcterms:modified xsi:type="dcterms:W3CDTF">2005-08-18T09:47:06Z</dcterms:modified>
  <cp:revision>4</cp:revision>
  <dc:subject/>
  <dc:title>PowerPoint Presentation</dc:title>
</cp:coreProperties>
</file>